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05D4-A370-44AD-9449-E618EEF3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A30-0515-4222-A00E-9443396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C77E-420C-4892-B099-FC7AC8B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563A-A8F5-4F93-9143-4D61CBA7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A0555-8BB1-4BCB-A152-CC7B44A4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9DD36-73BB-4686-BE21-53DAFA3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4214D-EF0A-43A3-B4F1-7C8DCC8E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DF4AA-2DCB-4F26-91C3-DDCDF50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3614C-280C-41F9-82D9-D4AFFF83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DE09-6C33-49CB-B1ED-218C96A4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B0E82-F7CB-4BEE-8259-3E16F012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17445-8BFA-4C73-802C-331A2C07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CD3-6D34-4548-B0A3-EE709E9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926E3-9152-4817-BA3A-B610350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D93E1-624E-457F-A855-A06BFA1C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5FB56-43EA-4FDD-94CD-BD08FB0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EE1F6-E51C-4F44-97A2-5E2EB272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32FE9-5080-4B0F-8B08-34027F86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048F7-95B6-4282-B0EB-0AA54E6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84F50-4B2F-4EF8-9A15-4354C06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7D7EB-1B90-4CB1-9BFA-E51357A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ADD11-32C5-46D8-BAFF-5739A349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A24BE-FBA1-4669-B48E-801406A1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EBF-AABC-470B-AAD8-B7648BF9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182A8-83C8-4FCA-B010-BF8CA72F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0F38C-661A-4C49-90FB-530B80B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584F-C949-4D72-8BCD-9261917F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A37C-E465-4183-B045-9C4DFE7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847B8-3338-4F77-AF2F-4896E783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D7FB4-13C5-4368-AA60-1D568DAC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C490E-99E7-4BE0-B1B3-F58A8AD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64ECA-5DD5-4D35-B9F8-1286F780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2AA43-45CC-4BA1-A1DE-8AEA1957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476C-453D-4F93-8777-1D8EA01E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8CAD-F98F-4256-83E8-99D0862E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6AE56-8E9F-4BE0-9CF0-F2086D5F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9ADB2-509D-4355-A116-474FB0E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0F9CC-16A9-4368-B4EA-3837397B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E59E4-D0AE-4C0B-965F-5850A556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A4B7E-3CEC-4D9C-8DF2-4AC1812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FC07B-6EE6-4F38-BB74-02557B3C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4B73D-0339-4C27-BDC1-611BD981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65BBA-9E60-4735-BEB7-6306387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0CFDE-BE86-4B07-A2F8-16641CEA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80DFF-3DAC-48C9-A10F-52717730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E382-5EC9-43DD-A2CC-79879E8A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7488A-597C-47C4-958B-72BE726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7387-3504-4224-9F90-1E8F754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19A24-B19D-4E71-9121-60C37C9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78D83-6175-4531-A96E-17CEF606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6BE9D-882A-4F69-9A8E-7FCC1BD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B1E1F-341B-4522-8DEA-B5906DA0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B4CF0-9FE9-47F7-8BF9-AD9E251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280A2-CFBB-4895-B08C-1B4ACF13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7EF2A-B8D2-457B-B562-C22EC14B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BD86B-133D-4FCB-91CD-C1701AF0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9AD6-C023-45AC-BBEF-56D86A0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4C5F0-9E17-4124-9806-019093ED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50765-6686-4E87-854D-4FC9CE4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FA78E-C504-42C6-8854-713ABFFB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26F86-00BC-473F-97A0-1591EE1C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1BA88-AE04-43B3-BBAD-B305FC86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828C3-83B1-498D-AFFD-027CA8AB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092E9-9F4F-475B-B0D6-CB63583C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9B797-65A2-4265-BA28-61D4C951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BB5C1-747F-4CC0-A64E-1296EC2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A1B18-46D8-4CE7-87C9-2668FDE5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15CB-4B1C-4E9D-8022-6543CB8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F49C8-CC8A-4FC4-9314-B02C338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0B10C-C22E-4753-844D-125BF033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DB1A9-5458-4545-A10D-F5690457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5878E-3B71-492C-8293-AF92154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0A829-21C1-435D-85A7-5A24F8D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B852C-0EA9-41B9-83B5-A432C2B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19F26-A145-4693-8F49-74CDC46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174AE-2A64-4054-94E3-B785DE42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EEFC0-5BAB-4564-A1A1-C0E42602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8483B-2AB3-4E47-87A7-65C192B1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B3A5-A021-4F01-8565-3DC5725A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DF2D97-1487-4968-ADA5-AD1162F6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C6426D-6818-4EAA-96CF-6FDBC001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7211AB-05E9-4A8B-9E87-4F8F9B5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C5B517-CD5A-4A91-951E-869E43B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294853-9423-4F77-84D4-F96619B8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7124AD-4D94-4E36-A816-CA44850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B18A7C-6210-4611-8BCA-2E346E3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C216FC-B91F-4788-AFDB-30C77CF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15877C-315C-43ED-A3D5-95FBDB2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A48297-FF2A-42DF-81DA-9FCA0239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F83-60EC-4BFE-B33B-CCAAF9FE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AF97D3-A42A-4D8E-B498-289E440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134B8B-2E0C-4E9B-BB8F-16F646D7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504152-40C8-4CF6-B9ED-16C9F0A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130B4D-19C5-4147-BE4B-6377551E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4DA87F-69FA-499E-9FB4-40F24912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254FA2-4669-4157-865A-5AE6948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6EF0380-616E-4612-A144-02E39F53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523CE9-5E67-4342-8785-F867282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F8254E-08C7-4B63-B891-23FCB6B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8DDC0C-AD3F-47D4-9CF7-00894E93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A321-628D-4221-88AF-DCEEEB3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176E82-55A0-4C9D-8614-A825023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8EF2B7-B531-431B-A229-482D50B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8A097D-B64D-41E1-BFD0-D26509BA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4B34E1-24D9-48A9-AC98-5D7C44C6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17D387-256C-4A37-BD27-2EC0DD4F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5C4351-F0BF-4218-A5CD-C31F9BFC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6E0723-D8FB-4436-BB13-F3D53633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3B8C62-A2E5-4046-A1FE-45171C0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39A67F-00C6-48D9-A45D-63448FCB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DEB565-AACD-48C9-9935-CD4D9F2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FBD-0B2C-4D84-B2C7-E6EF3680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200C-F39E-4229-AA6A-71BA1AB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B9C1F8-5B06-4901-B112-4A79680B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8ABDF3-D314-4F5B-8D4A-9F9C6FB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5770AA-3A52-4553-BDF5-0C95659F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084A97-64A7-4924-A922-9244DFFC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131BE6-7CFB-46AC-848E-C5F806F8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A61D1-79A8-403E-9F3A-9FC4B10D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F9229-15ED-4BEA-9C2C-7E1DB91D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EE542-6F74-4C08-A093-8A4633AB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7B922-DD77-4A12-9FDD-6E7EC44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A4ECA-A56E-4091-9087-6C8FAA94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90E3-D4B4-404E-B938-454D5993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E62F3-C3C6-4E71-B3AD-610BC8A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8FDDD6-10C4-434A-B933-4961D74B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D00F3-59CA-4EB0-8C9D-AB060F95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5F9C0-A67C-4DB7-AD3F-7436B6A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DE4AC-DFD1-429A-804D-BD014D5C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4FCFF-1A71-4610-8062-60D66E73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1D284-0507-4027-93D5-058458C7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43C7-D070-4CF5-9EC4-8965A74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898-AF39-4832-A7F9-A23D1E8B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244F-63A7-4DE1-9407-D5A8953D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A28D-BB92-4668-BC93-9ACC055D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FDCF-A43D-4709-B358-905DEB77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72A3-5069-4089-8FDE-A248B69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5F0F-F091-4202-B89F-190C514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8F68-A85F-4F7C-B69C-176C389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CA1-A64C-42A9-A678-D11CCA8C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F9A8-B00E-4B11-9642-5DE32E57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06B5-00D4-4620-B1E5-D0197F11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4413-6AE0-4BE4-989C-07729D42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A838-C310-4FDF-A3B6-D50945C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783E-9EB2-4602-8137-C6F66B2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2207-5083-4EF4-A927-027CE245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5BC1-C5B4-4CE3-BC15-93761B1A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CBD4-9CF5-4DB5-9048-42ADD1BE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6B66-6E0D-40D1-83ED-918BCC46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0DD8-186A-46C7-AA4F-F12FF5DD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081-1E97-47D7-ADFF-C62CFE99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7D0A-A9D7-412B-AAC6-542F0DA9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BD87-756C-4876-9A0E-2ABD101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76FE-0862-4416-9E5F-95871D2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A90B-6A1D-45D1-A491-18056A3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B1C4-4815-4670-AD61-DE5CA75F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ECC8-2950-446A-AC1C-9F1418A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8025-D376-4D0E-99F7-585A2A74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1878-082D-4D0C-826B-82FDD732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05FB-C415-45A1-8B27-6125E366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7730-EB91-404D-9BD0-B3988648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F94-6AB0-452A-9A1A-A96E4C3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1ED5-6416-4630-B084-A1D5C530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DC4E-D5DF-4C5B-B837-3E9C2C7F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BB86C-7267-498F-BA18-493603D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0B06-1B4F-41B5-AF95-0C213AC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2A40-0028-4FC1-9DAC-F79CE96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2E822-216A-49AA-9763-4C6F289A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14CC-FEB0-4F55-B51D-0FD7195F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9F2B6-A4A2-45F5-A13C-203867D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2B233-B60B-45E9-B674-9C5D991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A5EC-BD90-4A48-88F7-703E089A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51C-7A71-4416-B5FB-94CE7C10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F72B-8B15-45C0-ADB3-54686EF6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6C25F-E743-43A9-8316-F90A9C1A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E33C-332F-4D45-9D9C-AFF1AED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E52E-86E7-4259-ADAF-E5BCAF0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A49B-EF35-4C0D-9772-018A2E71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AF1A-7035-492C-BC87-2F205799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FA63F-7883-4F78-8E44-8F633F3D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BFE5-7C05-4C07-B238-42DBF1E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C66B3-B220-4CBE-A5DC-51C7279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5079-4D5A-42E5-BCDB-3C108D8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220-19DF-4053-B8A8-1C3428A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89B5-4885-44EC-B0DD-DD83E967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B0A2D-3AB0-46A6-A207-69096F15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CBB71-8400-478D-8AA2-BB89FAF4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5F390-9B6B-4AA0-BB48-B757B6B5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E969F-C992-480E-B070-18CA7B2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E476-8521-4CC0-85C6-1AA5505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2FD5-2C94-4410-A8E8-F228FF4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D9DED-57F4-4AB8-BADF-1A1C097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9B1E-E325-4957-8C91-4B9D0EFB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2A04-088B-436C-A8FA-AB2A743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8FF-8079-4BEC-A222-75F55F4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4791C-1B69-419D-B3FC-030FA6BB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8453-E1C8-40DB-81F6-F136186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B1E0-A658-44CB-B2C7-0D11F947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7147-6063-4DCA-8BE3-C4578D04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B6944-6E39-443A-85F7-577F3DA3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0C57-F1BA-4508-9D5C-38FFFAA9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7D7D0-BF76-4E4E-B60A-FD5FE4F3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CE362-D365-4F72-8286-E411AFF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E8BC-361B-486C-9685-E8F3625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CB0F-F086-4980-A91B-2CC4C06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3FA-6323-45DA-A603-010CBBAA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436F-D2D4-4A81-B4B7-D5A6699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4871-4041-4D65-B1F1-155CC9CD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92EE1-15E2-435E-BF54-A0DD31F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F98C0-7F4A-4F84-A137-E0253BDC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B73DC-A641-4DDE-B209-A355940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B8E80-4889-4923-8FA3-73C123B5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A0B3-05F3-430F-A4DA-662A2236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47627-FB21-4605-A74F-4F3C438B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247AE-BFBD-4FD7-936D-8C415AF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4561F-A2BF-4432-9DA8-EC6B7F00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8FA-06A5-4602-9557-5F7329EB26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73F7-7FC5-4923-BA9C-49174D9BFD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E10-0A5F-4B17-A06A-9A25CAC402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F60-B072-410C-9420-77DECCB049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8DD-97DD-45DF-99A6-525A1B24A5E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9AC-19A6-4BDA-B90A-3CAB63EACE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8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324-3665-4AA8-9C03-46F46D5F55C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5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7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8E4-7A5C-4473-923F-C7E2AA3B4C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48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0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E79-F974-4F64-AC5C-2ADD3F072D7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5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66FF-301D-4ABC-94A0-15F9AF901AB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D82-BC78-4124-BDC3-FE202C22ED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7BD3-2B6D-4789-8570-D3FFAF70F8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7726-96A5-4289-BB6C-FE07F4335E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00A8-7650-43A7-97E9-C05AC31D4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CF00-9EEC-488D-A9E0-27AB0C1FDA4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54B-5A7E-442B-BBD1-BAA71BB298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D29A-FA1F-4E94-9DA3-7ED505BC4FD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ADF-011A-4054-B558-298286F43541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Mi Viaje a Costa Ric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3352680" y="3886200"/>
            <a:ext cx="289584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radley Hand ITC"/>
              </a:rPr>
              <a:t>Kendall Pa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6" descr="377333_22"/>
          <p:cNvPicPr/>
          <p:nvPr/>
        </p:nvPicPr>
        <p:blipFill>
          <a:blip r:embed="rId2"/>
          <a:stretch/>
        </p:blipFill>
        <p:spPr>
          <a:xfrm>
            <a:off x="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377333_46"/>
          <p:cNvPicPr/>
          <p:nvPr/>
        </p:nvPicPr>
        <p:blipFill>
          <a:blip r:embed="rId3"/>
          <a:stretch/>
        </p:blipFill>
        <p:spPr>
          <a:xfrm>
            <a:off x="6705720" y="3276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9" descr="377333_41"/>
          <p:cNvPicPr/>
          <p:nvPr/>
        </p:nvPicPr>
        <p:blipFill>
          <a:blip r:embed="rId4"/>
          <a:stretch/>
        </p:blipFill>
        <p:spPr>
          <a:xfrm>
            <a:off x="0" y="16765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0" descr="377333_71"/>
          <p:cNvPicPr/>
          <p:nvPr/>
        </p:nvPicPr>
        <p:blipFill>
          <a:blip r:embed="rId5"/>
          <a:stretch/>
        </p:blipFill>
        <p:spPr>
          <a:xfrm>
            <a:off x="6705720" y="51055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1" descr="377333_13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2" descr="377333_12"/>
          <p:cNvPicPr/>
          <p:nvPr/>
        </p:nvPicPr>
        <p:blipFill>
          <a:blip r:embed="rId7"/>
          <a:stretch/>
        </p:blipFill>
        <p:spPr>
          <a:xfrm>
            <a:off x="0" y="34290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3" descr="377333_51"/>
          <p:cNvPicPr/>
          <p:nvPr/>
        </p:nvPicPr>
        <p:blipFill>
          <a:blip r:embed="rId8"/>
          <a:stretch/>
        </p:blipFill>
        <p:spPr>
          <a:xfrm>
            <a:off x="6705720" y="1676520"/>
            <a:ext cx="2438280" cy="16761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4" descr="377333_10"/>
          <p:cNvPicPr/>
          <p:nvPr/>
        </p:nvPicPr>
        <p:blipFill>
          <a:blip r:embed="rId9"/>
          <a:stretch/>
        </p:blipFill>
        <p:spPr>
          <a:xfrm>
            <a:off x="0" y="50292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5"/>
          <p:cNvSpPr/>
          <p:nvPr/>
        </p:nvSpPr>
        <p:spPr>
          <a:xfrm>
            <a:off x="2438280" y="3808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Mi Hot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  <a:ea typeface="Arial"/>
              </a:rPr>
              <a:t>é</a:t>
            </a:r>
            <a:r>
              <a:rPr b="0" lang="en-US" sz="4000" spc="-1" strike="noStrike">
                <a:solidFill>
                  <a:srgbClr val="cc00cc"/>
                </a:solidFill>
                <a:latin typeface="Blackadder ITC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514600" y="1219320"/>
            <a:ext cx="3809880" cy="48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¡Hola! llegué ayer en el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Westin Golf Resort &amp; Spa. Estoy aqui con Heidi y Julia. El hot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él es muy boñito y muy grande.  El hotél tiene la piscina grande, y los cuartos boñitos. El hotél tiene una bueña vista. Hace buen tiempo.  El sol brilla. No hasté nublado. ¡Costa Rica es muy boñi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  <a:ea typeface="Arial"/>
              </a:rPr>
              <a:t>Kend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-360" y="26676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LU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94" name="Picture 5" descr="imagesCA9GIPW1"/>
          <p:cNvPicPr/>
          <p:nvPr/>
        </p:nvPicPr>
        <p:blipFill>
          <a:blip r:embed="rId1"/>
          <a:stretch/>
        </p:blipFill>
        <p:spPr>
          <a:xfrm>
            <a:off x="6543720" y="533520"/>
            <a:ext cx="2467080" cy="2971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6" descr="images"/>
          <p:cNvPicPr/>
          <p:nvPr/>
        </p:nvPicPr>
        <p:blipFill>
          <a:blip r:embed="rId2"/>
          <a:stretch/>
        </p:blipFill>
        <p:spPr>
          <a:xfrm>
            <a:off x="6629400" y="3809880"/>
            <a:ext cx="2381400" cy="2743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447920" y="958680"/>
            <a:ext cx="41148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Querida Cait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¡Hola! ¿Como estas? Yo estoy bien. Hoy es Lunes. Hace buen tiempo. Hace color. No hasté nublado.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Por la m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ñan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, yo fui  mont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a caballo en la selva y en la playa.  En la selva, yo llev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  <a:ea typeface="Arial"/>
              </a:rPr>
              <a:t>é los tenis, pero en la selva llevé las sandalias. Después, yo fui a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Koki Beach Restaurante.  ¡El comido fue delicioso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Besos y abraz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urlz MT"/>
              </a:rPr>
              <a:t>Kend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3"/>
          <a:stretch/>
        </p:blipFill>
        <p:spPr>
          <a:xfrm>
            <a:off x="328680" y="480060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021280" cy="5508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Franklin Gothic Medium"/>
              </a:rPr>
              <a:t>                         </a:t>
            </a:r>
            <a:r>
              <a:rPr b="0" lang="en-US" sz="4300" spc="-1" strike="noStrike">
                <a:solidFill>
                  <a:srgbClr val="000000"/>
                </a:solidFill>
                <a:latin typeface="Aparajita"/>
              </a:rPr>
              <a:t>MARTES</a:t>
            </a:r>
            <a:endParaRPr b="0" lang="en-US" sz="4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562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QUERIDA CAITLIN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Y ES MARTES. HACE MAL TIEMPO. ESTÁ LLOVIENDO. HAY NUBES. YO FUI A MUSEO JUAN SANTAMARÍA. FUE MUY INTERESANTE. YO FUI A MONTEVERDE CHEESE FACTORY TAMBIEN. EL QUESO FUE BUENO. YO TRAJÉ UN UNBRELLA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BRAZOS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KENDALL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6738840" y="4905360"/>
            <a:ext cx="2467080" cy="1952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"/>
          <p:cNvPicPr/>
          <p:nvPr/>
        </p:nvPicPr>
        <p:blipFill>
          <a:blip r:embed="rId2"/>
          <a:stretch/>
        </p:blipFill>
        <p:spPr>
          <a:xfrm>
            <a:off x="6738840" y="3057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3"/>
          <a:stretch/>
        </p:blipFill>
        <p:spPr>
          <a:xfrm>
            <a:off x="6738840" y="1447920"/>
            <a:ext cx="2386080" cy="1609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4"/>
          <a:stretch/>
        </p:blipFill>
        <p:spPr>
          <a:xfrm>
            <a:off x="6738840" y="28440"/>
            <a:ext cx="2386080" cy="141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"/>
          <p:cNvSpPr/>
          <p:nvPr/>
        </p:nvSpPr>
        <p:spPr>
          <a:xfrm>
            <a:off x="5181480" y="-66204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ércoles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2"/>
          <p:cNvSpPr/>
          <p:nvPr/>
        </p:nvSpPr>
        <p:spPr>
          <a:xfrm>
            <a:off x="1608120" y="1413000"/>
            <a:ext cx="6248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Hola! ¿Como estas? Yo estoy bien. Hoy es Miércoles. Hace buen tiempo. Hace color y el sol brilla.  Yo fui a la playa. Yo fui con Heidi y Julia.  nosotros llevamos unos traje de baños y unas gafas de sol. Yo trajé la loción bronceadora y Heidi trajó unas toalla playeras. Yo practicé el surfing. Julia esquió en el agua. Buceamos y nadamos en el agua tambien. ¡Fue muy divertido! Nosotros no practicamos la plancha de vela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2"/>
          <a:stretch/>
        </p:blipFill>
        <p:spPr>
          <a:xfrm>
            <a:off x="3176640" y="4511520"/>
            <a:ext cx="2979720" cy="23464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"/>
          <p:cNvPicPr/>
          <p:nvPr/>
        </p:nvPicPr>
        <p:blipFill>
          <a:blip r:embed="rId3"/>
          <a:stretch/>
        </p:blipFill>
        <p:spPr>
          <a:xfrm>
            <a:off x="0" y="4511520"/>
            <a:ext cx="3214800" cy="23464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4"/>
          <a:stretch/>
        </p:blipFill>
        <p:spPr>
          <a:xfrm>
            <a:off x="6156360" y="4541760"/>
            <a:ext cx="3006720" cy="2316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"/>
          <p:cNvPicPr/>
          <p:nvPr/>
        </p:nvPicPr>
        <p:blipFill>
          <a:blip r:embed="rId5"/>
          <a:stretch/>
        </p:blipFill>
        <p:spPr>
          <a:xfrm>
            <a:off x="304920" y="136440"/>
            <a:ext cx="1923840" cy="12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1905120" y="247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Jue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"/>
          <p:cNvSpPr/>
          <p:nvPr/>
        </p:nvSpPr>
        <p:spPr>
          <a:xfrm>
            <a:off x="2936880" y="1828800"/>
            <a:ext cx="397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da Caitl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y es Jueves. El sol brilla. A veces hat nubes.Yo jugué el tenis con Heidi. Nosotros trajamos dos raquetas y tres pelotas. Yo jugué el gulfo tambien. Yo jugué con julia. Después, nosotros fuimos a Colbert Restaurante. La comida fue intaliano. ¡Es fue Delicios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os y 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2"/>
          <a:stretch/>
        </p:blipFill>
        <p:spPr>
          <a:xfrm>
            <a:off x="7294680" y="0"/>
            <a:ext cx="1849320" cy="1676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4" descr=""/>
          <p:cNvPicPr/>
          <p:nvPr/>
        </p:nvPicPr>
        <p:blipFill>
          <a:blip r:embed="rId3"/>
          <a:stretch/>
        </p:blipFill>
        <p:spPr>
          <a:xfrm>
            <a:off x="7294680" y="1666800"/>
            <a:ext cx="1877760" cy="16797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6" descr=""/>
          <p:cNvPicPr/>
          <p:nvPr/>
        </p:nvPicPr>
        <p:blipFill>
          <a:blip r:embed="rId4"/>
          <a:stretch/>
        </p:blipFill>
        <p:spPr>
          <a:xfrm>
            <a:off x="7294680" y="5194440"/>
            <a:ext cx="1877760" cy="16635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7" descr=""/>
          <p:cNvPicPr/>
          <p:nvPr/>
        </p:nvPicPr>
        <p:blipFill>
          <a:blip r:embed="rId5"/>
          <a:stretch/>
        </p:blipFill>
        <p:spPr>
          <a:xfrm>
            <a:off x="7294680" y="3346560"/>
            <a:ext cx="1887480" cy="1847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6"/>
          <a:stretch/>
        </p:blipFill>
        <p:spPr>
          <a:xfrm>
            <a:off x="9360" y="4572000"/>
            <a:ext cx="2498760" cy="2286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7"/>
          <a:stretch/>
        </p:blipFill>
        <p:spPr>
          <a:xfrm>
            <a:off x="9360" y="2209680"/>
            <a:ext cx="2498760" cy="23623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8"/>
          <a:stretch/>
        </p:blipFill>
        <p:spPr>
          <a:xfrm>
            <a:off x="9360" y="0"/>
            <a:ext cx="249876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1"/>
          <p:cNvSpPr/>
          <p:nvPr/>
        </p:nvSpPr>
        <p:spPr>
          <a:xfrm>
            <a:off x="1019160" y="457200"/>
            <a:ext cx="660096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Vier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Querida Caitl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¡Hola! Hace color. El sol brilla. Hoy es Viernes. Nosotros nadamos en la piscina de hotél. No fuimos a la playa.  Julia, heidi, y yo fuimos perezamos. Después, nosotros hacamos las maletas. Fuimos triste.  La viaje fue divertido. ¡Adi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Abraz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</a:rPr>
              <a:t>Kend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58128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16:01Z</dcterms:created>
  <dc:creator>palinken</dc:creator>
  <dc:description/>
  <dc:language>en-US</dc:language>
  <cp:lastModifiedBy>palinken</cp:lastModifiedBy>
  <dcterms:modified xsi:type="dcterms:W3CDTF">2012-11-30T16:43:43Z</dcterms:modified>
  <cp:revision>25</cp:revision>
  <dc:subject/>
  <dc:title>Mi Viaje a Costa Rica</dc:title>
</cp:coreProperties>
</file>